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744-14CE-4EA9-85C8-B4F3B850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63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749-349A-4ABC-B86F-CBB432DC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6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6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E13-BA27-4321-BD28-B8F59931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6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6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63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C91-8211-4092-9D17-8F84063F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263-099E-43E6-92C1-CA448DF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5AD-19E6-40C1-AFC8-ECBD4F6C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4A3-B18C-4735-A1AF-16060D7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1D2-FB5A-4108-8A2D-175EBB51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EAC-1A96-4D6C-B22B-86D13B9B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6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1C5-C3B3-4F9D-8FE3-B661AAA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63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713-51CD-4A10-BCAF-2569CD54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63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302-DB53-4197-90EB-0EC5C2B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292320">
              <a:lnSpc>
                <a:spcPct val="80000"/>
              </a:lnSpc>
              <a:spcBef>
                <a:spcPts val="20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673200" indent="1440">
              <a:lnSpc>
                <a:spcPct val="8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 Narrow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006560" indent="-6192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197000" indent="1584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197000" indent="1584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197000" indent="1584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981EEB-5631-41F4-B11E-D626E490140C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81154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3528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INTERNATIONAL VENTURE CAPITAL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orto Carras R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alkidiki - Gree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119480"/>
            <a:ext cx="69926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aris Issa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neral Manager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Hellenic Center for Inves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709-7335-446C-9B38-B12A48C03441}" type="slidenum">
              <a:t>1</a:t>
            </a:fld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Arial Narrow"/>
              </a:rPr>
              <a:t>ELKE – Electronic Newsletter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Available on the web site from December 2002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474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hens Business Club News - 2004 Olympic Gam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vestment Opportunity Highligh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entive Remind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se Studies/Testimonials/Profi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gional Repor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cerpts from presentations, speech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F34-953C-4BC5-A9C9-A9216E8A118E}" type="slidenum">
              <a:t>10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09720"/>
            <a:ext cx="8229600" cy="39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Venture Capital Forum has become an annual event characterized by both continuity and change.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first three Fora took place in Athens, the fourth is taking place in Northern Greece, a change signifying the rising economic importance of this region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ur international participation is stronger this year than in any of the previous thre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4A3-EB32-4834-928C-0CBE6C485B18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6168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chart below presents the number of business plans submitted and their country of origin (in descending order)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66680" y="2495520"/>
          <a:ext cx="6838920" cy="3486240"/>
        </p:xfrm>
        <a:graphic>
          <a:graphicData uri="http://schemas.openxmlformats.org/drawingml/2006/table">
            <a:tbl>
              <a:tblPr/>
              <a:tblGrid>
                <a:gridCol w="5791320"/>
                <a:gridCol w="1047600"/>
              </a:tblGrid>
              <a:tr h="433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ra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lga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um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ypr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uthern Greece (incl. Athe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rthern Greece (incl. Thessaloni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Gre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85F-B24E-4E74-8146-23897F183180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sectoral analysis reveals that almost one half of the business plans come from the IT Sector, one third from Health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dustrial Constructio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gricultur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elecommunications Secto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the rest from Materials, Energy, Trade, Construction, Environment and Electronic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total amount of required financing is close to EURO 100 mil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DC1-3393-40C7-86EE-6E30584ED279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33040"/>
            <a:ext cx="737208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Arial Narrow"/>
              </a:rPr>
              <a:t>ELKE – Its role and services provided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2419200"/>
            <a:ext cx="891540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LKE was established in 1996 as a “one-stop-shop” for investor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cc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Promotes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Greek investment opportunities to inves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cc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Supports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projects during  implementation stage, especially the expedition of issuance of licences and approva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cc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Handles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 applications for cash grants, concerning investment programs in excess of  Euro 9 m or  Euro 3 m if  50% of equity is in foreign currenc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buClr>
                <a:srgbClr val="00cc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00ccff"/>
                </a:solidFill>
                <a:latin typeface="Arial Narrow"/>
              </a:rPr>
              <a:t>Acts as advisor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o</a:t>
            </a:r>
            <a:r>
              <a:rPr b="0" lang="en-GB" sz="2800" spc="-1" strike="noStrike">
                <a:solidFill>
                  <a:srgbClr val="a1a9f7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Government on the necessary changes to the investment  regulatory framework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GB" sz="2600" spc="-1" strike="noStrike">
                <a:solidFill>
                  <a:srgbClr val="ffffff"/>
                </a:solidFill>
                <a:latin typeface="Times New Roman"/>
              </a:rPr>
              <a:t>www.elke.gr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9E4-0773-4333-859F-D60A3F66285F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38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Arial Narrow"/>
              </a:rPr>
              <a:t>ELKE – Information provided to investo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609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w upgraded web si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lectronic newslett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gional information (prefectur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toral inform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748-8F9F-4115-B8C3-BE5A2DC863FA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Arial Narrow"/>
              </a:rPr>
              <a:t>Available information through the new website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view of Greece’s business environment and opportunitie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ontains data on business sectors, labour force,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nfrastructure, Olympics 200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gional Inform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vestment Incentiv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-line Databas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ontains data on business opportunities at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efectural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leve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B07-0E0F-474B-B639-783F87F57511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04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Arial Narrow"/>
              </a:rPr>
              <a:t>Available information through the new website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760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siness, Tax and Regulatory Issue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quired Licences and Approva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tor Pub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tegories of Useful Lin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ws Off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requently Asked Ques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hens Business Club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E53-96AE-4C6D-B41C-E544D674C411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Arial Narrow"/>
              </a:rPr>
              <a:t>ELKE – Electronic Newsletter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Available on the web site from December 2002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nthly Economic Upd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lendar of Events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onferences, exhibitions, seminars business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vestment News and Monthly News Upd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toral and Infrastructure Revi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views of key business executiv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LKE N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13F-F673-4D03-889A-81C1FED0F359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20:08:18Z</dcterms:created>
  <dc:creator>elena</dc:creator>
  <dc:description/>
  <dc:language>en-US</dc:language>
  <cp:lastModifiedBy>kyrkou</cp:lastModifiedBy>
  <cp:lastPrinted>2000-06-09T07:52:13Z</cp:lastPrinted>
  <dcterms:modified xsi:type="dcterms:W3CDTF">2003-05-14T10:13:11Z</dcterms:modified>
  <cp:revision>257</cp:revision>
  <dc:subject/>
  <dc:title>HELENIC CENTRE  FOR INVESTMENT</dc:title>
</cp:coreProperties>
</file>