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F129-0AE1-4EDD-A40A-D8FFE7A73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D5E9-1869-4487-B7DF-3A52823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796D-8D98-41E6-90F7-808E60F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17AC-FE69-451A-8FBA-6DD32D38F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B250-04C3-4C62-A03C-4CF194E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DE85-847F-4307-8D9C-EF503B4E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21F6-1F56-42AD-B050-6EAD3A2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64AB-2393-4EA5-B59D-A1F3796D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6EDD-B6F8-4906-A567-6DFE2FD3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95E6-8567-4E53-BE66-33055167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DE0D-13F7-44B1-85DF-5F055803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228A-C790-43CB-9558-AD61865F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 Ma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226-62A8-4E39-BFD2-25E8C3DF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971800" y="6195960"/>
            <a:ext cx="297180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Stage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4876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annis Protopapada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Finance partners: compa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+ companies in Greece, Cyprus, Geneva, USA, Romania, Bulgaria, Russ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9040" y="1674720"/>
          <a:ext cx="8113680" cy="423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674720"/>
                    <a:ext cx="811368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AA45-5188-49D1-AD36-CAE4862E30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6AB55-A9F2-4AA1-97D5-6A815BE709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143000"/>
          <a:ext cx="4384800" cy="26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438480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Finance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713120" y="1247760"/>
          <a:ext cx="4418280" cy="23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3120" y="1247760"/>
                    <a:ext cx="4418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04920" y="3886200"/>
          <a:ext cx="4343400" cy="230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86200"/>
                    <a:ext cx="434340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00600" y="3886200"/>
          <a:ext cx="3610080" cy="1914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886200"/>
                    <a:ext cx="361008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74320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743200"/>
            <a:ext cx="304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4A34-82A7-49D0-A2F2-370DF9EDD0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0A406-03AB-4E3A-8FB1-648E75E0C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e money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Re-engine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of ownersh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O / MBI / L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ivest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structure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gr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ing of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acquisition, new contract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ign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 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18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F76F-72E4-4861-B096-ABBEC8B21B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4C4D4-88A3-485F-B82E-CBE4E09A96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mportant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stage investments absorb the bulk of private equity fu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2286000"/>
          <a:ext cx="4121280" cy="32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412128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990720" y="205740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2002, €27bn invested i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8320" y="2627280"/>
          <a:ext cx="4302000" cy="280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627280"/>
                    <a:ext cx="430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410080" y="20574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4,600 compan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58672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urce: EV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E23C-92FC-4C37-AEDF-06EBCFC88A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9906B-4909-4D6F-A7B6-9576657910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ig deal with MB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times the average dea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motivate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ly calibrated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ck transformation to maximum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4680" y="3121200"/>
          <a:ext cx="6684840" cy="295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3121200"/>
                    <a:ext cx="6684840" cy="29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724280" y="38862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deal size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58672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urce: EV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F9EE-2AFE-462B-AD59-A092B37E41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AC826-E8AA-408E-AC3A-307FA9D82D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late-stage invest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dd val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1904760"/>
            <a:ext cx="3886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ing asset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mitted 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s tr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3C80-9DE6-4334-877A-619DD13965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F7E4B-6575-470C-8597-ACDF1D5310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y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4475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or the untested brilliant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alist startup or early 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 understanding of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to lar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3678-1D23-41DC-912C-9134D3F979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819DF-98FE-4E00-BF1D-3A7299B52D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you may 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0720" y="1294920"/>
            <a:ext cx="5715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o five-year w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your books – and he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l-searching and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and confidentiality are v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– be realistic, must leave room for up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 – Think of the exit up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7178-72B6-48E4-B3D5-76AB20B32D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B7F29-F25D-479B-B8EE-25F72F54D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the right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143000"/>
            <a:ext cx="5790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ed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stry, as in every w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e: able to understand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 track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tude: is there to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: ability and willingness to open 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ed and free of special inter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money vs passive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tion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6950-092B-4E55-A18E-71930E4BA2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83BB2-95B9-4D77-8083-0D486FB90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Finance partners: inves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50 million raised fro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m available funds for investmen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k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76520" y="1752480"/>
          <a:ext cx="5638680" cy="29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638680" cy="29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3152-1D13-401B-9D9E-EFA40E8D9D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FCF01-BC6C-4EBE-A801-EC213C9F8D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7:34:17Z</dcterms:created>
  <dc:creator>protopapadakis</dc:creator>
  <dc:description/>
  <dc:language>en-US</dc:language>
  <cp:lastModifiedBy>LapTop PC</cp:lastModifiedBy>
  <cp:lastPrinted>2003-05-14T14:20:49Z</cp:lastPrinted>
  <dcterms:modified xsi:type="dcterms:W3CDTF">2003-05-16T07:01:25Z</dcterms:modified>
  <cp:revision>14</cp:revision>
  <dc:subject/>
  <dc:title>Later Stage Investments</dc:title>
</cp:coreProperties>
</file>